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155-B95D-469E-BD27-1D9DDFBD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F03-4A0B-490D-9405-61D83284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212-3A46-4BDF-B0CE-AD947DF1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0D4-749D-4B1E-86E1-3E1ED19E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D4F7-10AA-4213-BB32-B3AF1BF6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59D0-BFB4-4EAB-9DD5-C4F9B32B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123-883B-457F-B63C-B4187557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A630-36C4-46E6-9E78-7F6061F6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E669-802C-4138-8C3F-49A564E9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2649-7DAE-4A95-8EBD-2CFAE67A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2DE7-4BAB-418B-88F2-A7B1DF13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4B7-069D-4366-A2C3-DD16CCA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9B91-D733-4E7C-806F-FC54B11C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DB17-F6A2-4684-9F7C-A0EE596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918B-C093-4548-ADD2-9AB21926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C12A-78CF-428F-94FC-75CE7730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877A-0BAD-461A-9F0B-896D23B2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296C-9656-4C22-BE15-D8033C77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C879-E509-4B4C-AF90-0A5F80E1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B809-A3BF-4B74-95FA-C4B7E6E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E9067-4505-4574-BAA9-C6CEBEB0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2C1E-0440-4A82-BF77-78597809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BFB-E8B6-49DD-A07F-190B5A0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FE09-8809-45BC-8A7C-18A96D3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6E77-4550-4BBA-AB69-E358AF6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79E6-91A0-46F1-ADF9-9071FA4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3CF1-2165-4AB1-8DEE-9961F2C7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E890-654D-4EF5-A2EC-BE8BA065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685B-C103-4A33-B92C-2509613D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17C8-C14F-40C3-B175-8150ABFF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59EA-A038-4024-BDFD-6FCC6B7E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14D8-0B9B-4BF1-ABEE-BB4A72D2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5F7A6-F3E8-4922-A183-3E06EB5A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238-BF18-43D9-A324-D7C57AD4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B7349-A0DC-4AF1-A40A-A16EB574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0A780-A5B8-4B9F-8584-6F82D17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51E8-E991-4CEA-BCF9-835BEF1C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E54B-61A1-42A6-B4C9-C9E0DDF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A462-1F4B-4B97-8BA2-FB14B0A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0DE9-E15E-4706-ADC9-9E4DA4B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66AF-F9C6-4A6D-86FA-0C266751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F215-AFBE-4576-8DC0-0EF45510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FE44E-1688-4173-B14D-BF56A268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9B0-7757-457D-8569-9390D8C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DE3-4192-417A-8AA0-B567B0E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95C-D4FD-4E9B-A5E0-D84A4DF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46E-1C69-4212-89C3-192B91C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556-0C6B-469B-80EC-85BE6131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DB4AD1-05DF-49F3-9106-F6856D067CD8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FACE9E-4DD7-4CB1-B159-FE15BD6F83D2}" type="slidenum">
              <a:rPr b="0" lang="es-ES_trad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0B3038-2CBB-433E-B0B7-C7746E8B5C56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F1BAF6-6383-4902-BE52-2A496CFA976C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b7"/>
                </a:solidFill>
                <a:latin typeface="Arial Black"/>
              </a:rPr>
              <a:t>Our environment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are we doing to our plan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olution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Countries should control the level of pollution in industri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Industries cannot settle in certain are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-3070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Support organisations such as Greenpea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70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822960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050920" y="3357720"/>
            <a:ext cx="4537080" cy="343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Destruction of rainfores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Problem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ost trees are cut down to get wood, to make paper, medicines and for fu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pecies of animals and flowers disappear every da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859280" y="393372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3673440" cy="28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Destruction of rainfores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olution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plant more tre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use less paper and woo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recycle mo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79640" y="3789360"/>
            <a:ext cx="5040360" cy="279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310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Wood fi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roblem: Fires destroy forests and woods, their trees, animals and vegeta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56000" y="2809800"/>
            <a:ext cx="4900320" cy="37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Arial"/>
              </a:rPr>
              <a:t>Wood fir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olutions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Adults shouldn´t through away cigarrete end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Don´t throw broken glass bottles, tins, plastic bags,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310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raff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ars burn gasoline, which produce carbon dioxide, the gas that causes the green house effec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753080" cy="36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Traff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24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Solutions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use public transpor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travel by bike or on foot as much as we ca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To use other energy sources: wind power, solar power, hydroelectric,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673520" y="1413000"/>
            <a:ext cx="3643560" cy="4717800"/>
            <a:chOff x="4673520" y="1413000"/>
            <a:chExt cx="3643560" cy="47178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673520" y="1413000"/>
              <a:ext cx="364356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 txBox="1"/>
            <p:nvPr/>
          </p:nvSpPr>
          <p:spPr>
            <a:xfrm>
              <a:off x="4673520" y="1413000"/>
              <a:ext cx="3643560" cy="471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Some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caused over 40% of the world´s rainforests to disapp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polluted the air, the sea and the lan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killed lots of species of animals and plan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used up most of tje planet´s water and energy resour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have changed the world´s clima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We are growing so fast that all these problems are getting worse every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Verdana"/>
              </a:rPr>
              <a:t>What can we do?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Water was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38680" indent="-2386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Problem: The shortage of clean water is one of the most urgent problems in the world due to the growth of the 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opulation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, the 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pollution</a:t>
            </a: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 of water supplies and the decrease in </a:t>
            </a:r>
            <a:r>
              <a:rPr b="0" lang="es-ES_tradnl" sz="2800" spc="-1" strike="noStrike">
                <a:solidFill>
                  <a:srgbClr val="ff0000"/>
                </a:solidFill>
                <a:latin typeface="Verdana"/>
              </a:rPr>
              <a:t>water reserv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76360" y="3500280"/>
            <a:ext cx="6048360" cy="2953080"/>
            <a:chOff x="1476360" y="3500280"/>
            <a:chExt cx="6048360" cy="295308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1476360" y="3500280"/>
              <a:ext cx="6048360" cy="29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 txBox="1"/>
            <p:nvPr/>
          </p:nvSpPr>
          <p:spPr>
            <a:xfrm>
              <a:off x="1476360" y="3500280"/>
              <a:ext cx="6048360" cy="295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Water was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olu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rotect water suppli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Verdana"/>
              </a:rPr>
              <a:t>Save water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: keeping the tap clo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Re-using wa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816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Rubbish and waste dispos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1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roblem: domestic wast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Solutions: - To recycle paper, glass, metal and plast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o turn rubbish into energy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68360" y="3379680"/>
            <a:ext cx="4248360" cy="326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7530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roblem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Factories send gases into the air. The gases mix with water in the air (acid rai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503880" cy="4537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280" y="1557000"/>
            <a:ext cx="3467160" cy="45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Verdana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Pesticides and fertilizers used in farms are poisonous to living thing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747960" cy="42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"/>
              </a:rPr>
              <a:t>Air, land and water pol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- Industrial chemical waste is carried by the rivers into the seas, by dumping from ships and by sewage disposal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27024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36:12Z</dcterms:created>
  <dc:creator>Spud</dc:creator>
  <dc:description/>
  <dc:language>en-US</dc:language>
  <cp:lastModifiedBy>WinuE</cp:lastModifiedBy>
  <dcterms:modified xsi:type="dcterms:W3CDTF">2009-11-07T22:52:09Z</dcterms:modified>
  <cp:revision>18</cp:revision>
  <dc:subject/>
  <dc:title>Animal Surviv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